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6910-7B4A-47FA-B313-A7B8E0B6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AD09-011A-476B-AEA7-DBBDB525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2D30-BBF4-4E4E-BAEA-820FFDCE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AAB3-7C11-4219-B798-72096FE2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103E-56B0-437C-9C6E-C0E99CA2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D9B3-68D3-4E8A-A764-4E6DED23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B201-0A59-4E57-89CC-A07F9810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A86B-672C-40CF-B8F1-7EC7C73A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950A-3076-4678-AFA6-E7CFE1EB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A5C0-888A-45DF-8BBB-3A13E2E4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5B0B-50DC-4D6C-96C2-2AC969B3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5D52-4F50-4EB7-8D8F-D70524D1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BA9C-0465-4C83-B410-E3C58A51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CABC-B447-4D4D-A762-F3820AE2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C7F8-B6F5-495A-81B8-DAEE09F4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F9A9-91DD-46B4-B343-715CA91F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78DB-AA9D-4910-9557-5890B836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BA2A-668A-4AB8-9B36-0613B051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6B29-6351-4A74-81B4-33AEAA44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DEDD-94FE-44A6-831D-FE7FB5A6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5925-AD82-4C99-9E76-AAAB13E5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95EF-6AD2-44C9-B708-9A087C82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547A-1E28-4164-BCBE-87EA84AA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E96F-35AD-444B-8D20-2F632FE1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CFE3-1D13-4411-8AD8-1E3F519925D5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79A1-EE1C-41D7-9ACA-B84A265AA047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oit.wikispaces.com/" TargetMode="External"/><Relationship Id="rId2" Type="http://schemas.openxmlformats.org/officeDocument/2006/relationships/hyperlink" Target="http://oit.wikispaces.com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d2204"/>
                </a:solidFill>
                <a:latin typeface="Arial"/>
              </a:rPr>
              <a:t>Get Going with </a:t>
            </a:r>
            <a:br>
              <a:rPr sz="4000"/>
            </a:br>
            <a:r>
              <a:rPr b="1" lang="en-US" sz="4000" spc="-1" strike="noStrike">
                <a:solidFill>
                  <a:srgbClr val="5d2204"/>
                </a:solidFill>
                <a:latin typeface="Arial"/>
              </a:rPr>
              <a:t>Wikispaces</a:t>
            </a:r>
            <a:endParaRPr b="1" lang="en-US" sz="40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Follow these steps as you work.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Step 1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- Explore several different pages on the OIT wiki</a:t>
            </a:r>
            <a:br>
              <a:rPr sz="2800"/>
            </a:br>
            <a:r>
              <a:rPr b="0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Step 2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- Make a list of the types of files found on the OIT wiki</a:t>
            </a:r>
            <a:br>
              <a:rPr sz="2800"/>
            </a:br>
            <a:r>
              <a:rPr b="0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Step 3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- Discuss how these pages make the work of OIT staff easier and more effective</a:t>
            </a:r>
            <a:br>
              <a:rPr sz="2800"/>
            </a:br>
            <a:r>
              <a:rPr b="0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Step 4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- Work with group members to make a list of the different pages we might include in an ISquad wiki</a:t>
            </a:r>
            <a:br>
              <a:rPr sz="2800"/>
            </a:b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sk selected participants to share resources they found on the OIT wiki and their value to the OIT staff.</a:t>
            </a:r>
            <a:br>
              <a:rPr sz="2400"/>
            </a:b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Lead a discussion about how a wiki could make the ISquad more effective.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ompile a list of resources that might be included on an ISquad wiki.</a:t>
            </a:r>
            <a:br>
              <a:rPr sz="2400"/>
            </a:b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did you do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can a wiki make us more effective as an ISquad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are wikis?</a:t>
            </a: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use a wiki space to make the ISquad more effective?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n this session, participants will learn what a wiki is and how a wiki space can be useful for the ISquad and the work they do.</a:t>
            </a: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Watch me as I show you how I use a wiki to give our teachers a resource that they can use in their classrooms.</a:t>
            </a:r>
            <a:br>
              <a:rPr sz="3200"/>
            </a:b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5421"/>
                </a:solidFill>
                <a:uFillTx/>
                <a:latin typeface="Arial"/>
                <a:hlinkClick r:id="rId1"/>
              </a:rPr>
              <a:t>IS 162 </a:t>
            </a:r>
            <a:r>
              <a:rPr b="0" lang="en-US" sz="3200" spc="-1" strike="noStrike" u="sng">
                <a:solidFill>
                  <a:srgbClr val="995421"/>
                </a:solidFill>
                <a:uFillTx/>
                <a:latin typeface="Arial"/>
                <a:hlinkClick r:id="rId2"/>
              </a:rPr>
              <a:t>Wiki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w we will visit a wikispace that is more robust than the 162 space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avigate to http://oit.wikispaces.com</a:t>
            </a: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s we navigate through this space, be sure to notice the different resources here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are some of the things you notice right away about the OIT wiki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ake the next 15 minutes to poke around in the OIT wiki and make a list of all of the different resources you find there.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Be sure to note all the different types of files that are on the OIT wiki. Think about why the different resources might be included in the wiki.</a:t>
            </a:r>
            <a:br>
              <a:rPr sz="2400"/>
            </a:b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fter you have completed your investigation of the OIT wiki, you will use the last 15 minutes to work in your groups to brainstorm a list of the kinds of resources we could include in an ISquad wiki.</a:t>
            </a:r>
            <a:br>
              <a:rPr sz="2400"/>
            </a:b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8-03-01T17:47:19Z</dcterms:modified>
  <cp:revision>4</cp:revision>
  <dc:subject/>
  <dc:title>Workshop Title</dc:title>
</cp:coreProperties>
</file>